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3257-0DED-44EC-BD51-A13A89FA4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F784-489D-4DB4-91D2-A859C5CF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CD7A-663C-4599-8C62-B785F3959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FCE2-0CD1-40B2-8FB7-B8724C45C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47BB-E066-46DB-B526-501D8748C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A577-0530-48E3-9DCF-30C433B6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0B8A-90EC-4E3B-9D48-9AECEF34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3AE3-29AE-4A5B-84E7-1AE76677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AE5D-791F-4565-A759-8D6E4021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4545-CB17-4050-AF90-2F7D0B76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CA56-CE74-4694-A422-C5EA9315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88D7-B90C-47EC-A146-13E57F7D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A1FD-8514-433D-A7CD-BB9F1F04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FF9E-D643-4C67-8E8C-6515E84F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AABB-376A-4F03-87B4-D3EDFCAF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8404-C9FC-443F-8C99-D7A5B854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BED8-A7CE-45E1-ACB9-96745EDAC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8773-E217-4BC1-A57A-127B4C85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0262-F02E-40FD-A634-90973A96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118E-6E03-46A1-B7B4-CD720FED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EE22-367C-488E-9170-F9B54F20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B476-5988-4E39-948D-67A08B63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B5AF-894F-443F-A728-3713AA8B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E1C6-9520-48CF-9B91-E166EC39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C593-0CD4-4821-9478-F02C62761F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68D8-0368-4537-9F5E-9F80B95DF8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Q8RuO2ekNGw&amp;feature=related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suvfg19o4s&amp;feature=related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30033"/>
                </a:solidFill>
                <a:latin typeface="Arial"/>
              </a:rPr>
              <a:t>5.1 Evolution of the </a:t>
            </a:r>
            <a:br>
              <a:rPr sz="5000"/>
            </a:br>
            <a:r>
              <a:rPr b="0" lang="en-US" sz="5000" spc="-1" strike="noStrike">
                <a:solidFill>
                  <a:srgbClr val="330033"/>
                </a:solidFill>
                <a:latin typeface="Arial"/>
              </a:rPr>
              <a:t>Atomic Model 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8" name="Picture 22" descr="380914_f260"/>
          <p:cNvPicPr/>
          <p:nvPr/>
        </p:nvPicPr>
        <p:blipFill>
          <a:blip r:embed="rId1"/>
          <a:stretch/>
        </p:blipFill>
        <p:spPr>
          <a:xfrm>
            <a:off x="1752480" y="1828800"/>
            <a:ext cx="5791320" cy="4121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24"/>
          <p:cNvSpPr/>
          <p:nvPr/>
        </p:nvSpPr>
        <p:spPr>
          <a:xfrm>
            <a:off x="5105520" y="609588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n Dalton – first to describe an at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5181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John Dal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toms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cannot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be divi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ll atoms of an element are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identical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toms of different elements are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toms are rearranged to form new substances in chemical reactions but they are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never created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destroyed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http://www.keetee.com/downloads/sphere.jpg"/>
          <p:cNvPicPr/>
          <p:nvPr/>
        </p:nvPicPr>
        <p:blipFill>
          <a:blip r:embed="rId1"/>
          <a:stretch/>
        </p:blipFill>
        <p:spPr>
          <a:xfrm>
            <a:off x="6629400" y="2286000"/>
            <a:ext cx="2158920" cy="228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510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J.J. Thomp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toms contain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negatively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charged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electron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in a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positively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charged sp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negatively charged electrons are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distributed evenly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hroughout the at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http://nobelprize.org/educational_games/physics/quantised_world/structure-images/fig2b.gif"/>
          <p:cNvPicPr/>
          <p:nvPr/>
        </p:nvPicPr>
        <p:blipFill>
          <a:blip r:embed="rId1"/>
          <a:stretch/>
        </p:blipFill>
        <p:spPr>
          <a:xfrm>
            <a:off x="6400800" y="5335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Rosinenkuchen_nach__Thompson_077"/>
          <p:cNvPicPr/>
          <p:nvPr/>
        </p:nvPicPr>
        <p:blipFill>
          <a:blip r:embed="rId2"/>
          <a:stretch/>
        </p:blipFill>
        <p:spPr>
          <a:xfrm>
            <a:off x="5943600" y="34290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0033"/>
                </a:solidFill>
                <a:latin typeface="Times New Roman"/>
              </a:rPr>
              <a:t>Ernest Rutherford</a:t>
            </a:r>
            <a:r>
              <a:rPr b="1" lang="en-US" sz="4400" spc="-1" strike="noStrike">
                <a:solidFill>
                  <a:srgbClr val="330033"/>
                </a:solidFill>
                <a:latin typeface="Times New Roman"/>
              </a:rPr>
              <a:t>’s </a:t>
            </a:r>
            <a:br>
              <a:rPr sz="4400"/>
            </a:br>
            <a:r>
              <a:rPr b="1" lang="en-US" sz="4400" spc="-1" strike="noStrike">
                <a:solidFill>
                  <a:srgbClr val="330033"/>
                </a:solidFill>
                <a:latin typeface="Times New Roman"/>
              </a:rPr>
              <a:t>Gold Foil Experiment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4343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Ani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ll of the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charge in an atom is located in the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centr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of the atom, called the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nucleu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. The positively charged particles in the nucleus are called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roton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nucleus contains most of the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atom’s mas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, but takes up very little space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648320" y="1523880"/>
            <a:ext cx="415584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GoldFoilExpt"/>
          <p:cNvPicPr/>
          <p:nvPr/>
        </p:nvPicPr>
        <p:blipFill>
          <a:blip r:embed="rId2"/>
          <a:stretch/>
        </p:blipFill>
        <p:spPr>
          <a:xfrm>
            <a:off x="5334120" y="2438280"/>
            <a:ext cx="3809880" cy="26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446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nucleus is surrounded by a cloud of negatively charged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st of the atom is empty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http://faculty.virginia.edu/consciousness/images/rutherford%20model.gif"/>
          <p:cNvPicPr/>
          <p:nvPr/>
        </p:nvPicPr>
        <p:blipFill>
          <a:blip r:embed="rId1"/>
          <a:srcRect l="5393" t="5486" r="5393" b="5486"/>
          <a:stretch/>
        </p:blipFill>
        <p:spPr>
          <a:xfrm>
            <a:off x="5807160" y="2595600"/>
            <a:ext cx="2205000" cy="22906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0"/>
          <p:cNvSpPr/>
          <p:nvPr/>
        </p:nvSpPr>
        <p:spPr>
          <a:xfrm>
            <a:off x="838080" y="914400"/>
            <a:ext cx="3962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Ernest Rutherford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5037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James Chadw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nucleus of the atom contains protons and neutral particles called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mass of a neutron is about the same as the mass of a prot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 neutral atom has the same number of protons and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electrons are “circling” around the nucle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http://www.bbc.co.uk/manchester/content/images/2008/09/10/rutherford_atomic_model_180x200.gif"/>
          <p:cNvPicPr/>
          <p:nvPr/>
        </p:nvPicPr>
        <p:blipFill>
          <a:blip r:embed="rId1"/>
          <a:stretch/>
        </p:blipFill>
        <p:spPr>
          <a:xfrm>
            <a:off x="6261120" y="2360520"/>
            <a:ext cx="2008080" cy="236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3817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Niels Bo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electrons orbit the nucleus like planets orbit the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ach electron ‘orbit’ has a defined amount of energy and so is called an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energy level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#°"/>
          <p:cNvPicPr/>
          <p:nvPr/>
        </p:nvPicPr>
        <p:blipFill>
          <a:blip r:embed="rId2"/>
          <a:stretch/>
        </p:blipFill>
        <p:spPr>
          <a:xfrm>
            <a:off x="5057640" y="1766880"/>
            <a:ext cx="3222720" cy="29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Niels Bohr (continu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lectrons cannot be between the energy levels, but they can “jump” from one level to an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en atoms release energy it is seen as 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ach energy level can hold a maximum number of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8:16:38Z</dcterms:created>
  <dc:creator>OCDSB User</dc:creator>
  <dc:description/>
  <dc:language>en-US</dc:language>
  <cp:lastModifiedBy>Katie</cp:lastModifiedBy>
  <dcterms:modified xsi:type="dcterms:W3CDTF">2014-10-01T19:36:21Z</dcterms:modified>
  <cp:revision>56</cp:revision>
  <dc:subject/>
  <dc:title>Atomic Theories and Subatomic Particles</dc:title>
</cp:coreProperties>
</file>